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382-CDA6-4F6E-9DDD-EAA38DFE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66B-194D-4DF8-8688-907C530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031-ADE5-473A-AD3F-7766E0A0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E07-0947-4753-930E-226F54C3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9571-D851-440B-BF9A-79216552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BBD0-6758-4B0B-8CD7-93AF54E6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AC9A-C222-4495-B53D-DE9E2F9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D1D-31D7-4E47-8BC6-FB4DC8BB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7E7-0FD3-4550-A902-F7F9660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32CD-78C3-4753-8226-14C2406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F16-BB10-49A9-99D0-55F79CF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C80-A93E-4403-840C-0CFB1BA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4E0-E70B-4B1C-8C11-01E4785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7CE-A69C-4A2A-BDBB-F1CD68C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40F-D7E1-46FC-A780-4D62EC1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C534-E2D9-41B1-A6B1-C047B24F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F4B0-E84D-49E6-ABDD-D5D0E1C2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90A-C26C-4BA3-B51C-CEE282CC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971-84AB-48FD-987C-3B5D1C10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AE8-D20D-4E67-8995-63817A22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804-AE94-4F14-8D86-DE48AFB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13E-A1E9-42B5-A801-C668019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BD8-69EA-433F-8EDC-7B7E204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5CE-B534-4CDB-8CA5-D3949A9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678-2CFD-4349-A43F-FF821EB17D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022B-B1DE-4E84-B9B8-D109213EB8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d4ce"/>
                </a:solidFill>
                <a:latin typeface="Tahoma"/>
              </a:rPr>
              <a:t>Interactions among teachers, curriculum and classrooms</a:t>
            </a:r>
            <a:endParaRPr b="0" lang="en-US" sz="48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hama E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CITE confer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 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ce"/>
                </a:solidFill>
                <a:latin typeface="Tahoma"/>
              </a:rPr>
              <a:t>Proof ideas in the written lesson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bstitution that results in different values proves that two expressions are not equivalent (a specific case of refutation by counter example as mathematically vali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bstitution cannot be used to prove that two given algebraic expressions are equivalent (a specific case of supportive examples for a universal statement as mathematically invali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ddresses the problem that emerged from idea 2: The use of properties of real numbers (e.g., the commutative and the distributive properties) in the manipulative processes is a mathematically valid method for proving that two expressions are equival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ce"/>
                </a:solidFill>
                <a:latin typeface="Tahoma"/>
              </a:rPr>
              <a:t>Proof ideas in the written lesson (cont.)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ustifies Idea 2: There may exist a number, which was not substituted yet, but its substitution in the two given expressions would result in different values, thus showing non-equival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ustifies Idea 3: The use of properties of real numbers in the manipulative processes guarantees that any substitution in two expressions would result in the same value, thus showing equival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underpinning for ideas 1, 2, and 3, as well as, for ideas 4 and 5. It is the definition of equivalent algebraic expressions: Two algebraic expressions are equivalent if the substitution of any number in the two expressions results in the same valu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d4ce"/>
                </a:solidFill>
                <a:latin typeface="Tahoma"/>
              </a:rPr>
              <a:t>Conceptual and methodological proble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hat conceptu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rameworks and research method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ill enable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arison of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chers structure and handle the mathematical content of less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hematics that is available to learn in the lesso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d4ce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y one analyze the nature of algebraic meaning of the transformational activities made available to learn in the less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49:53Z</dcterms:created>
  <dc:creator>Ruhama</dc:creator>
  <dc:description/>
  <dc:language>en-US</dc:language>
  <cp:lastModifiedBy>Ruhama Even</cp:lastModifiedBy>
  <dcterms:modified xsi:type="dcterms:W3CDTF">2008-11-20T13:06:11Z</dcterms:modified>
  <cp:revision>8</cp:revision>
  <dc:subject/>
  <dc:title>Interactions among teachers, curriculum and classrooms</dc:title>
</cp:coreProperties>
</file>